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BDA-9402-41B2-9156-6A44DC75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23B-ECB2-46F7-A8D7-055D64C7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6BA-27E9-4775-BCAD-B8C9C294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E13-B904-43EE-A059-A49FAA08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6B1-A904-4D6C-90C0-01499166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901-9356-47E4-91D7-C07CF729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FFD-94FB-40A9-A865-DCB8C56F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CD9-FB21-4D46-8657-1D47A926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560" y="27432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A5E-9B59-4625-B693-A63D821F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011-C6CD-4285-89AD-E0963860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572-D2ED-40C6-B29E-B0F24ABD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C42-07B1-4930-8064-EB9E7743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1120" cy="6855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48BC-C891-4D1F-9F0D-EA15BD788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B- HIV Collaborative activities in Romania- may 2006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4267080"/>
            <a:ext cx="6248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P Rom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Institute for Lung Diseases Buchar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V testing for TB patients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he project funded by the Global Fu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9040" y="1828440"/>
            <a:ext cx="7007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objectiv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establish an effective collaboration between NTP and HIV/AIDS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assess the percentage of HIV-infection among TB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V-Testing for TB patients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he project funded by the Global Fu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step: a formal collaboration protocol addressing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lowing issu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ponsible institution and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-management of HIV-TB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cording and reporting, exchange of information at central and region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ly with drugs for both treatment reg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vi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– HIV pati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9040" y="1828440"/>
            <a:ext cx="7007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lation of Smear + patients in TB-network 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treatment is priority in front of HIV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sources: - NTP units for anti-TB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V/ AIDS units for ARV treat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1360" y="21700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666880"/>
            <a:ext cx="2743200" cy="785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pat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ti-TB treatment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3276720"/>
            <a:ext cx="2743200" cy="785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V-infected per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RV treat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562720"/>
            <a:ext cx="388620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V/ AIDS regional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ial and periodical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V drugs pr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152280"/>
            <a:ext cx="335304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District-Level Dispens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nti-TB Drug pr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4191120"/>
            <a:ext cx="1981440" cy="105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y PHD Labora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752480"/>
            <a:ext cx="4572000" cy="785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ological laboratory (TB networ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acteriological exa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24480" y="2590560"/>
            <a:ext cx="1526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2514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pi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8680" y="457200"/>
            <a:ext cx="228528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391520" y="456840"/>
            <a:ext cx="3808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685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304920"/>
            <a:ext cx="7621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350532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5410080"/>
            <a:ext cx="838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3520" y="4952880"/>
            <a:ext cx="838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6019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V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172200"/>
            <a:ext cx="9144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V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s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ing and Reporting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orms use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form for the start of an anti-TB treat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led-in and sent during first 48 hours to the TB county dispensary where the patients is l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ment card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all treatment cour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t to the TB district-level dispensary when the treatment e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form for an HIV/ AIDS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led-in with the personal  information of the patient and sent to the regional center for HIV/ AIDS surveillance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ing and reporting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formation report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68080" y="1676520"/>
            <a:ext cx="72183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umber of TB patients regist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umber of HIV-Tests perfomed for TB pati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umber of positive ELISA tests in TB pati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spcAft>
                <a:spcPts val="10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umber of TB patients confirmed with HIV (Western Blo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0" y="1600200"/>
            <a:ext cx="728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RV is not compulsory: Standard regimens for TB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RV are necessar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oiding the protease inhibitor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is not possible: replacement of Riphampicin with Riphabut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ily, including during the continua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ation of treatment: 9 months, instead of 6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V testing for TB patients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he project funded by the Global Fu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ning of staff from TB network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pre and post testing couns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management, recording- reporting, drug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0 persons trained from 47 centers (one/coun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September 2004- September 2005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,474 confirmed TB cases were regist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 of them: 9,475 were tested for HI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spcAft>
                <a:spcPts val="119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27 were HIV positive: 0.28 %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: Ea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4,000 square kilo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 million inhabi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1 counties and the Capital city: Bucharest (2.5 million inhabita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 medical universities (6 with over 50 years tradition , 7 are “born” after 19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iculties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mon protocol was not yet endorsed by the public health authorities (Ministry of Health), so it was not sent to the Public Health Departments at county lev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few counties that are not reporting systematical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iculties in supplying process with HIV tests and materials at national level during 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mania is considered by WHO at high risk for TB and at medium risk for 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V testing for TB patients has been continuously performed during last 2 years, in a continuously increasing prop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Control Programmes are continuously strengthened and an effective collaboration has been started at central and county lev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network- epidemiology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 the 1950s, a strong TB network and centralized data-collection for TB patients has been in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ov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800 lung-disease specialis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aling with TB in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89 TB dispensar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more than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00 TB inpatient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cteriological laboratory network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ver 170 bacteriological labora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ually over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20,000 new TB cases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registered, along with over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4,000 relapses and over 1,000 TB cases in child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about 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,000 MDR-TB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DR-TB rate among never-treated patients: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.9 %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ast drug resistance survey ended in 200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Control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 strategy started to be implemented in 1998 in 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 then, TB-control activities have been continuously reinforced and the TB network was strength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technical assistance was continuously pro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Control Program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His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achievements revealed by the WHO Programme Review Mission during April 2005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al TB network, including bacteriological labor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gnosis and TB treatment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uterized data collection system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% population covered by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effective supervision- monitoring system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 70% case detection rate, and 82% success rate for the 2003 coh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B-HIV and MDR-TB issues addres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5320" y="456840"/>
            <a:ext cx="721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of the TB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125360"/>
            <a:ext cx="1295280" cy="3988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u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1125360"/>
            <a:ext cx="1245960" cy="3988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ont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88000" y="1052640"/>
            <a:ext cx="2135160" cy="642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Perio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exa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666880"/>
            <a:ext cx="3073320" cy="8254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B Ambul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registered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5805360"/>
            <a:ext cx="2438280" cy="825480"/>
          </a:xfrm>
          <a:prstGeom prst="rect">
            <a:avLst/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TB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2960" y="1870200"/>
            <a:ext cx="16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P or o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cal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1523880"/>
            <a:ext cx="973080" cy="1328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1557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508720" y="1773360"/>
            <a:ext cx="180000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523880"/>
            <a:ext cx="3808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2276640"/>
            <a:ext cx="28728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259092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99160" y="263196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9600" y="2590920"/>
            <a:ext cx="23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3933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4365720"/>
            <a:ext cx="73080" cy="15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4653000"/>
            <a:ext cx="2521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v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357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16360" y="4076640"/>
            <a:ext cx="144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6360" y="3213000"/>
            <a:ext cx="0" cy="86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08360" y="321300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92360" y="623736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3141720"/>
            <a:ext cx="0" cy="30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3141720"/>
            <a:ext cx="649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6360" y="4076640"/>
            <a:ext cx="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5084640"/>
            <a:ext cx="36036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616572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257800"/>
            <a:ext cx="2209680" cy="101592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.P.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5734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77080" y="2637000"/>
            <a:ext cx="1584360" cy="1152360"/>
          </a:xfrm>
          <a:prstGeom prst="wedgeRoundRectCallout">
            <a:avLst>
              <a:gd name="adj1" fmla="val -95490"/>
              <a:gd name="adj2" fmla="val 77134"/>
              <a:gd name="adj3" fmla="val 16667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M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ns. and cont.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141720"/>
            <a:ext cx="1332000" cy="1150920"/>
          </a:xfrm>
          <a:prstGeom prst="wedgeRoundRectCallout">
            <a:avLst>
              <a:gd name="adj1" fmla="val 69189"/>
              <a:gd name="adj2" fmla="val 124342"/>
              <a:gd name="adj3" fmla="val 16667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.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HIV/AIDS Control Program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istory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4: first AIDS case re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8- 1989 breakdown in closed children communities, a challenge for public health authorities after 19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0: - computerized surveilla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3 major laboratories were equipped in Bucharest for HI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0: a national plan for universal access to ARV treatment and care 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3: the universal access to ARV treatment free of charge was 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V/ AIDS Epidem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w 9 regional reference centers for HIV diagnosis, treatment, and follow-u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V incidence among the general pop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53 %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1 % in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TB cases among HIV-infected person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4 in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5 in 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HIV cases: 6,433 (cumulat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AIDS cases: 9,825 (cumulat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persons living with HIV/ AIDS at 3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December 2005: 11,1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10516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olina Population Center</cp:lastModifiedBy>
  <dcterms:modified xsi:type="dcterms:W3CDTF">2006-11-09T15:32:08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